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BD163-5AC0-4AD7-974D-3A0F4BAA46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13372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53486-26C3-4786-94BC-9C93F618A4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133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1368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C9AD7-E3B4-49FE-8A2D-3117A5689A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9768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6200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133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29768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6200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5808D-2273-4C23-A9BD-D0801E144F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4C06CC-4A2D-4140-BF51-A74DB86AF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033C90-A02C-4073-872C-CDE97A46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B688C-EB22-4658-886D-F858B13F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56291-779A-4EE5-959B-B72FFDCF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BD104-22BD-43FD-BF26-7AD77304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68544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252588-2923-4958-A292-ECA3E37F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133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202812-C4B1-449D-8BEF-30E33068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07A8A-AC28-4E2C-84A1-CF149DF6C7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41368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CFD5AA-D250-4E7D-BAF6-89D15959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13372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82D3E3-E42E-4C78-90DD-B56FCBE0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13372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272687-F805-442A-8EE8-B1D10A7E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133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41368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826860-0E1C-4A38-A37D-6B26B73AD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9768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46200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133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29768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46200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9043D8-3717-4B95-8E5A-8D262F7F2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C5EE0-1536-4D90-A8B4-280CC81EAC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ACA92-B21F-4B6E-82CC-B9AC16704F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94B49-8AD7-4FC4-970E-0F69C558BB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44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4C712-8BB0-424B-BEA5-E6BF0D0A2A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133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AC9D5-E5F5-4809-9A74-B4EB4B1856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1368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B73F4-9382-44A8-9A6F-D4EC813C1D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A2432-B079-4C0A-9702-DC16817720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14264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1240-0C2C-4835-B0F4-8E456F987AD2}" type="slidenum">
              <a:rPr b="0" lang="en-US" sz="14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paint" descr=""/>
          <p:cNvPicPr/>
          <p:nvPr/>
        </p:nvPicPr>
        <p:blipFill>
          <a:blip r:embed="rId2"/>
          <a:stretch/>
        </p:blipFill>
        <p:spPr>
          <a:xfrm>
            <a:off x="914400" y="762120"/>
            <a:ext cx="8229600" cy="152280"/>
          </a:xfrm>
          <a:prstGeom prst="rect">
            <a:avLst/>
          </a:prstGeom>
          <a:ln w="0">
            <a:noFill/>
          </a:ln>
        </p:spPr>
      </p:pic>
      <p:pic>
        <p:nvPicPr>
          <p:cNvPr id="4" name="UMACOLOR" descr=""/>
          <p:cNvPicPr/>
          <p:nvPr/>
        </p:nvPicPr>
        <p:blipFill>
          <a:blip r:embed="rId3"/>
          <a:stretch/>
        </p:blipFill>
        <p:spPr>
          <a:xfrm>
            <a:off x="0" y="5916600"/>
            <a:ext cx="990720" cy="941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274320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Departamento de Tecnología Electrón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97D9-4E88-4531-A107-5EBDDE8A7112}" type="datetime">
              <a:rPr b="0" lang="en-US" sz="1400" spc="-1" strike="noStrike">
                <a:solidFill>
                  <a:srgbClr val="5e574e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8C1E-E551-444D-BCA7-DCD8A8F4277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55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590920"/>
            <a:ext cx="83822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cc00"/>
                </a:solidFill>
                <a:latin typeface="Arial"/>
              </a:rPr>
              <a:t>Desarrollo de un Equipo Selector H323 con Funcionalidades Avanzadas</a:t>
            </a:r>
            <a:r>
              <a:rPr b="0" lang="es-ES_tradnl" sz="36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609588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Times New Roman"/>
              </a:rPr>
              <a:t>Málaga, 9 de Noviembre de 2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859880" y="152280"/>
          <a:ext cx="128412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9880" y="152280"/>
                    <a:ext cx="128412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" name="Umatrans" descr=""/>
          <p:cNvPicPr/>
          <p:nvPr/>
        </p:nvPicPr>
        <p:blipFill>
          <a:blip r:embed="rId3"/>
          <a:stretch/>
        </p:blipFill>
        <p:spPr>
          <a:xfrm>
            <a:off x="0" y="152280"/>
            <a:ext cx="1371600" cy="1244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858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SerpentineDBol"/>
              </a:rPr>
              <a:t>Proyecto Fin de</a:t>
            </a:r>
            <a:r>
              <a:rPr b="0" lang="es-ES_tradnl" sz="2800" spc="-1" strike="noStrike">
                <a:solidFill>
                  <a:srgbClr val="ffffff"/>
                </a:solidFill>
                <a:latin typeface="SerpentineDBol"/>
              </a:rPr>
              <a:t> </a:t>
            </a:r>
            <a:r>
              <a:rPr b="0" lang="es-ES_tradnl" sz="3600" spc="-1" strike="noStrike">
                <a:solidFill>
                  <a:srgbClr val="ffffff"/>
                </a:solidFill>
                <a:latin typeface="SerpentineDBol"/>
              </a:rPr>
              <a:t>Carrer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1143000"/>
            <a:ext cx="65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Futura Md BT"/>
              </a:rPr>
              <a:t>ESCUELA TÉCNICA SUPERIOR DE INGENIEROS DE TELECOMUNIC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00400" y="152388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Futura Md BT"/>
              </a:rPr>
              <a:t>UNIVERSIDAD DE MÁLAG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4724280"/>
            <a:ext cx="792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Zurich Ex BT"/>
              </a:rPr>
              <a:t>Autor : José Miguel Prades Barran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Zurich Ex BT"/>
              </a:rPr>
              <a:t>Dirigido por : D. Eduardo Casilari Pére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Funcionalidad del software realizado I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Librerías y software de partid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ea91"/>
                </a:solidFill>
                <a:latin typeface="Tahoma"/>
                <a:ea typeface="Times New Roman"/>
              </a:rPr>
              <a:t>Librerias (PWLib, OpenH.323) del OPENH323 PROJECT</a:t>
            </a:r>
            <a:r>
              <a:rPr b="0" lang="es-ES_tradnl" sz="1800" spc="-1" strike="noStrike">
                <a:solidFill>
                  <a:srgbClr val="ffea91"/>
                </a:solidFill>
                <a:latin typeface="Tahoma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Fomenta compatibilidad(en código abierto) para H.32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Compañía australiana (Equivalence Pty Ltd)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colaborando con multitud de empresas/instituci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Sistemas Linux y Win32. Compilado en Solaris, FreeBSD y Be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Lenguaje ANSI C++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ea91"/>
                </a:solidFill>
                <a:latin typeface="Tahoma"/>
                <a:ea typeface="Times New Roman"/>
              </a:rPr>
              <a:t>OpenH323 </a:t>
            </a:r>
            <a:r>
              <a:rPr b="1" i="1" lang="es-ES_tradnl" sz="1800" spc="-1" strike="noStrike">
                <a:solidFill>
                  <a:srgbClr val="ffea91"/>
                </a:solidFill>
                <a:latin typeface="Tahoma"/>
                <a:ea typeface="Times New Roman"/>
              </a:rPr>
              <a:t>Gatekeeper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Código abierto (open sourc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Lenguaje ANSI C++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Ampliamente probado en su compatibilid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Básico en su funcionamiento (SIN funcionalidades avanzada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ea91"/>
                </a:solidFill>
                <a:latin typeface="Tahoma"/>
                <a:ea typeface="Times New Roman"/>
              </a:rPr>
              <a:t>OpenH323 </a:t>
            </a:r>
            <a:r>
              <a:rPr b="1" i="1" lang="es-ES_tradnl" sz="1800" spc="-1" strike="noStrike">
                <a:solidFill>
                  <a:srgbClr val="ffea91"/>
                </a:solidFill>
                <a:latin typeface="Tahoma"/>
                <a:ea typeface="Times New Roman"/>
              </a:rPr>
              <a:t>Gatekeeper </a:t>
            </a:r>
            <a:r>
              <a:rPr b="1" lang="es-ES_tradnl" sz="1800" spc="-1" strike="noStrike">
                <a:solidFill>
                  <a:srgbClr val="ffea91"/>
                </a:solidFill>
                <a:latin typeface="Tahoma"/>
                <a:ea typeface="Times New Roman"/>
              </a:rPr>
              <a:t>.</a:t>
            </a:r>
            <a:r>
              <a:rPr b="1" i="1" lang="es-ES_tradnl" sz="1800" spc="-1" strike="noStrike">
                <a:solidFill>
                  <a:srgbClr val="ffea91"/>
                </a:solidFill>
                <a:latin typeface="Tahoma"/>
                <a:ea typeface="Times New Roman"/>
              </a:rPr>
              <a:t> </a:t>
            </a:r>
            <a:r>
              <a:rPr b="1" lang="es-ES_tradnl" sz="1800" spc="-1" strike="noStrike">
                <a:solidFill>
                  <a:srgbClr val="ffea91"/>
                </a:solidFill>
                <a:latin typeface="Tahoma"/>
                <a:ea typeface="Times New Roman"/>
              </a:rPr>
              <a:t>CARENCI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Visualización de información  o eventos mínim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SIN control de alta de usuari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SIN control de llamada entre entidades H.32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159DF-17EF-452D-81A6-15D4C1D35B19}" type="slidenum">
              <a:t>10</a:t>
            </a:fld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Funcionalidad del software realizado II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378080" y="1143000"/>
          <a:ext cx="63356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8080" y="1143000"/>
                    <a:ext cx="63356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A824D-A8DE-4E4F-8430-B5F640ABCF4E}" type="slidenum">
              <a:t>11</a:t>
            </a:fld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Funcionalidad del software realizado II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378080" y="1143000"/>
          <a:ext cx="63356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8080" y="1143000"/>
                    <a:ext cx="63356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1B1B2-BE8D-4468-BC2B-F51E7D86873D}" type="slidenum">
              <a:t>12</a:t>
            </a:fld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Funcionalidad del software realizado II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378080" y="1143000"/>
          <a:ext cx="63356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8080" y="1143000"/>
                    <a:ext cx="63356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FE3D5-64C4-4F82-BC90-51218E887929}" type="slidenum">
              <a:t>13</a:t>
            </a:fld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Funcionalidad del software realizado II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378080" y="1143000"/>
          <a:ext cx="63356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8080" y="1143000"/>
                    <a:ext cx="63356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F3192-DB21-44BB-984E-0CF7F651DD68}" type="slidenum">
              <a:t>14</a:t>
            </a:fld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Funcionalidad del software realizado II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378080" y="1143000"/>
          <a:ext cx="63356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8080" y="1143000"/>
                    <a:ext cx="63356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E6E8E-F632-4B22-845C-E70EC16F513F}" type="slidenum">
              <a:t>15</a:t>
            </a:fld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Funcionalidad del software realizado II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378080" y="1143000"/>
          <a:ext cx="63356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8080" y="1143000"/>
                    <a:ext cx="63356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0B03C-98FF-44EF-AD91-9351B3D8B647}" type="slidenum">
              <a:t>16</a:t>
            </a:fld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Funcionalidad del software realizado III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Modificaciones al </a:t>
            </a:r>
            <a:r>
              <a:rPr b="1" i="1" lang="es-ES_tradnl" sz="2800" spc="-1" strike="noStrike">
                <a:solidFill>
                  <a:srgbClr val="ffffff"/>
                </a:solidFill>
                <a:latin typeface="Tahoma"/>
              </a:rPr>
              <a:t>Gatekeeper 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(ANSI C++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ea91"/>
                </a:solidFill>
                <a:latin typeface="Tahoma"/>
                <a:ea typeface="Times New Roman"/>
              </a:rPr>
              <a:t>Inicializ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ea91"/>
                </a:solidFill>
                <a:latin typeface="Tahoma"/>
                <a:ea typeface="Times New Roman"/>
              </a:rPr>
              <a:t>Control de acceso o altas en el </a:t>
            </a:r>
            <a:r>
              <a:rPr b="0" i="1" lang="es-ES_tradnl" sz="2000" spc="-1" strike="noStrike">
                <a:solidFill>
                  <a:srgbClr val="ffea91"/>
                </a:solidFill>
                <a:latin typeface="Tahoma"/>
                <a:ea typeface="Times New Roman"/>
              </a:rPr>
              <a:t>Gatekeep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Symbol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Control de la dirección IP del solicitante de al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Symbol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Control horario de alt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ea91"/>
                </a:solidFill>
                <a:latin typeface="Tahoma"/>
                <a:ea typeface="Times New Roman"/>
              </a:rPr>
              <a:t>Control de llamad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Symbol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Control de la dirección IP ORIG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Symbol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Control de la dirección IP DESTI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Symbol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Control horario de llama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AC44C-ECFA-4038-8A45-1B65189C7E55}" type="slidenum">
              <a:t>17</a:t>
            </a:fld>
          </a:p>
        </p:txBody>
      </p:sp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Funcionalidad del software realizado VI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Gestor o programa GUI 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(Grafic User Interface) ( con MFC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ea91"/>
                </a:solidFill>
                <a:latin typeface="Tahoma"/>
                <a:ea typeface="Times New Roman"/>
              </a:rPr>
              <a:t>Arranque del Gatekeep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ea91"/>
                </a:solidFill>
                <a:latin typeface="Tahoma"/>
                <a:ea typeface="Times New Roman"/>
              </a:rPr>
              <a:t>Añadir/Borrar permiso de AL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ea91"/>
                </a:solidFill>
                <a:latin typeface="Tahoma"/>
                <a:ea typeface="Times New Roman"/>
              </a:rPr>
              <a:t>Añadir/Borrar permiso de LLAMA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ea91"/>
                </a:solidFill>
                <a:latin typeface="Tahoma"/>
                <a:ea typeface="Times New Roman"/>
              </a:rPr>
              <a:t>Lista de Usuarios (“</a:t>
            </a:r>
            <a:r>
              <a:rPr b="0" i="1" lang="es-ES_tradnl" sz="1800" spc="-1" strike="noStrike">
                <a:solidFill>
                  <a:srgbClr val="ffea91"/>
                </a:solidFill>
                <a:latin typeface="Tahoma"/>
                <a:ea typeface="Times New Roman"/>
              </a:rPr>
              <a:t>alias</a:t>
            </a:r>
            <a:r>
              <a:rPr b="0" lang="es-ES_tradnl" sz="1800" spc="-1" strike="noStrike">
                <a:solidFill>
                  <a:srgbClr val="ffea91"/>
                </a:solidFill>
                <a:latin typeface="Tahoma"/>
                <a:ea typeface="Times New Roman"/>
              </a:rPr>
              <a:t>”) registrad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ea91"/>
                </a:solidFill>
                <a:latin typeface="Tahoma"/>
                <a:ea typeface="Times New Roman"/>
              </a:rPr>
              <a:t>Lista de Comunicaciones Activ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ea91"/>
                </a:solidFill>
                <a:latin typeface="Tahoma"/>
                <a:ea typeface="Times New Roman"/>
              </a:rPr>
              <a:t>Redacción de informes y registros</a:t>
            </a:r>
            <a:r>
              <a:rPr b="0" lang="es-ES_tradnl" sz="2000" spc="-1" strike="noStrike">
                <a:solidFill>
                  <a:srgbClr val="ffea91"/>
                </a:solidFill>
                <a:latin typeface="Tahoma"/>
                <a:ea typeface="Times New Roman"/>
              </a:rPr>
              <a:t> (visuales y en fichero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Symbol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Historial de event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Symbol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Intentos de conex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0A641-59AF-4FCF-908D-68B825D82091}" type="slidenum">
              <a:t>18</a:t>
            </a:fld>
          </a:p>
        </p:txBody>
      </p:sp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Funcionalidad del software realizado V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Intercambio de Información </a:t>
            </a:r>
            <a:r>
              <a:rPr b="1" lang="es-ES_tradnl" sz="2300" spc="-1" strike="noStrike">
                <a:solidFill>
                  <a:srgbClr val="ffffff"/>
                </a:solidFill>
                <a:latin typeface="Tahoma"/>
              </a:rPr>
              <a:t>GUI-</a:t>
            </a:r>
            <a:r>
              <a:rPr b="1" i="1" lang="es-ES_tradnl" sz="2300" spc="-1" strike="noStrike">
                <a:solidFill>
                  <a:srgbClr val="ffffff"/>
                </a:solidFill>
                <a:latin typeface="Tahoma"/>
              </a:rPr>
              <a:t>Gatekeeper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287360" y="1595520"/>
          <a:ext cx="6570720" cy="36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7360" y="1595520"/>
                    <a:ext cx="657072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02191-D936-48C6-831E-C219419E8643}" type="slidenum">
              <a:t>19</a:t>
            </a:fld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Arial Black"/>
              </a:rPr>
              <a:t>Índic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1143000"/>
            <a:ext cx="716256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Aft>
                <a:spcPts val="1749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Introd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Aft>
                <a:spcPts val="1749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omponentes del protocolo H.32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Aft>
                <a:spcPts val="1749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Procedimiento de llamada a través de un equipo selector H.323 (</a:t>
            </a:r>
            <a:r>
              <a:rPr b="0" i="1" lang="es-ES_tradnl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Gatekeep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Aft>
                <a:spcPts val="1749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Funcionalidad del software realiz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Aft>
                <a:spcPts val="1749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Manual de Usuari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(Demostración parci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Aft>
                <a:spcPts val="1749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Fase de Prueb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Aft>
                <a:spcPts val="1749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nclusiones y Líneas futur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85608-8106-48A1-A18D-E9785114880D}" type="slidenum">
              <a:t>2</a:t>
            </a:fld>
          </a:p>
        </p:txBody>
      </p:sp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Funcionalidad del software realizado V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Intercambio de Información </a:t>
            </a:r>
            <a:r>
              <a:rPr b="1" lang="es-ES_tradnl" sz="2300" spc="-1" strike="noStrike">
                <a:solidFill>
                  <a:srgbClr val="ffffff"/>
                </a:solidFill>
                <a:latin typeface="Tahoma"/>
              </a:rPr>
              <a:t>GUI-</a:t>
            </a:r>
            <a:r>
              <a:rPr b="1" i="1" lang="es-ES_tradnl" sz="2300" spc="-1" strike="noStrike">
                <a:solidFill>
                  <a:srgbClr val="ffffff"/>
                </a:solidFill>
                <a:latin typeface="Tahoma"/>
              </a:rPr>
              <a:t>Gatekeeper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278000" y="1590840"/>
          <a:ext cx="6589800" cy="36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8000" y="1590840"/>
                    <a:ext cx="6589800" cy="36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41ECF-59C4-4A88-A979-E1E2D24971EB}" type="slidenum">
              <a:t>20</a:t>
            </a:fld>
          </a:p>
        </p:txBody>
      </p:sp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Funcionalidad del software realizado V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Intercambio de Información </a:t>
            </a:r>
            <a:r>
              <a:rPr b="1" lang="es-ES_tradnl" sz="2300" spc="-1" strike="noStrike">
                <a:solidFill>
                  <a:srgbClr val="ffffff"/>
                </a:solidFill>
                <a:latin typeface="Tahoma"/>
              </a:rPr>
              <a:t>GUI-</a:t>
            </a:r>
            <a:r>
              <a:rPr b="1" i="1" lang="es-ES_tradnl" sz="2300" spc="-1" strike="noStrike">
                <a:solidFill>
                  <a:srgbClr val="ffffff"/>
                </a:solidFill>
                <a:latin typeface="Tahoma"/>
              </a:rPr>
              <a:t>Gatekeeper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278000" y="1590840"/>
          <a:ext cx="6589800" cy="36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8000" y="1590840"/>
                    <a:ext cx="6589800" cy="36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B8C8A-373C-48CB-BE8E-B04E77CC4B35}" type="slidenum">
              <a:t>21</a:t>
            </a:fld>
          </a:p>
        </p:txBody>
      </p:sp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Funcionalidad del software realizado V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Intercambio de Información </a:t>
            </a:r>
            <a:r>
              <a:rPr b="1" lang="es-ES_tradnl" sz="2300" spc="-1" strike="noStrike">
                <a:solidFill>
                  <a:srgbClr val="ffffff"/>
                </a:solidFill>
                <a:latin typeface="Tahoma"/>
              </a:rPr>
              <a:t>GUI-</a:t>
            </a:r>
            <a:r>
              <a:rPr b="1" i="1" lang="es-ES_tradnl" sz="2300" spc="-1" strike="noStrike">
                <a:solidFill>
                  <a:srgbClr val="ffffff"/>
                </a:solidFill>
                <a:latin typeface="Tahoma"/>
              </a:rPr>
              <a:t>Gatekeeper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278000" y="1590840"/>
          <a:ext cx="6589800" cy="36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8000" y="1590840"/>
                    <a:ext cx="6589800" cy="36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D43AE-7972-473C-A983-76B9497458FF}" type="slidenum">
              <a:t>22</a:t>
            </a:fld>
          </a:p>
        </p:txBody>
      </p:sp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Funcionalidad del software realizado V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Intercambio de Información </a:t>
            </a:r>
            <a:r>
              <a:rPr b="1" lang="es-ES_tradnl" sz="2300" spc="-1" strike="noStrike">
                <a:solidFill>
                  <a:srgbClr val="ffffff"/>
                </a:solidFill>
                <a:latin typeface="Tahoma"/>
              </a:rPr>
              <a:t>GUI-</a:t>
            </a:r>
            <a:r>
              <a:rPr b="1" i="1" lang="es-ES_tradnl" sz="2300" spc="-1" strike="noStrike">
                <a:solidFill>
                  <a:srgbClr val="ffffff"/>
                </a:solidFill>
                <a:latin typeface="Tahoma"/>
              </a:rPr>
              <a:t>Gatekeeper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278000" y="1590840"/>
          <a:ext cx="6589800" cy="36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8000" y="1590840"/>
                    <a:ext cx="6589800" cy="36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905F6-8C8D-48FD-8257-781D3F134678}" type="slidenum">
              <a:t>23</a:t>
            </a:fld>
          </a:p>
        </p:txBody>
      </p:sp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Funcionalidad del software realizado V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Intercambio de Información </a:t>
            </a:r>
            <a:r>
              <a:rPr b="1" lang="es-ES_tradnl" sz="2300" spc="-1" strike="noStrike">
                <a:solidFill>
                  <a:srgbClr val="ffffff"/>
                </a:solidFill>
                <a:latin typeface="Tahoma"/>
              </a:rPr>
              <a:t>GUI-</a:t>
            </a:r>
            <a:r>
              <a:rPr b="1" i="1" lang="es-ES_tradnl" sz="2300" spc="-1" strike="noStrike">
                <a:solidFill>
                  <a:srgbClr val="ffffff"/>
                </a:solidFill>
                <a:latin typeface="Tahoma"/>
              </a:rPr>
              <a:t>Gatekeeper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278000" y="1590840"/>
          <a:ext cx="6589800" cy="36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8000" y="1590840"/>
                    <a:ext cx="6589800" cy="36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AD1F3-EBCC-438A-A6B9-2F5BEDE07950}" type="slidenum">
              <a:t>24</a:t>
            </a:fld>
          </a:p>
        </p:txBody>
      </p:sp>
    </p:spTree>
  </p:cSld>
  <p:transition spd="med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Funcionalidad del software realizado V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Intercambio de Información </a:t>
            </a:r>
            <a:r>
              <a:rPr b="1" lang="es-ES_tradnl" sz="2300" spc="-1" strike="noStrike">
                <a:solidFill>
                  <a:srgbClr val="ffffff"/>
                </a:solidFill>
                <a:latin typeface="Tahoma"/>
              </a:rPr>
              <a:t>GUI-</a:t>
            </a:r>
            <a:r>
              <a:rPr b="1" i="1" lang="es-ES_tradnl" sz="2300" spc="-1" strike="noStrike">
                <a:solidFill>
                  <a:srgbClr val="ffffff"/>
                </a:solidFill>
                <a:latin typeface="Tahoma"/>
              </a:rPr>
              <a:t>Gatekeeper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278000" y="1590840"/>
          <a:ext cx="6589800" cy="36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8000" y="1590840"/>
                    <a:ext cx="6589800" cy="36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D89B8-F66E-4D84-A82B-DF7FE97834DA}" type="slidenum">
              <a:t>25</a:t>
            </a:fld>
          </a:p>
        </p:txBody>
      </p:sp>
    </p:spTree>
  </p:cSld>
  <p:transition spd="med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Funcionalidad del software realizado V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Intercambio de Información </a:t>
            </a:r>
            <a:r>
              <a:rPr b="1" lang="es-ES_tradnl" sz="2300" spc="-1" strike="noStrike">
                <a:solidFill>
                  <a:srgbClr val="ffffff"/>
                </a:solidFill>
                <a:latin typeface="Tahoma"/>
              </a:rPr>
              <a:t>GUI-</a:t>
            </a:r>
            <a:r>
              <a:rPr b="1" i="1" lang="es-ES_tradnl" sz="2300" spc="-1" strike="noStrike">
                <a:solidFill>
                  <a:srgbClr val="ffffff"/>
                </a:solidFill>
                <a:latin typeface="Tahoma"/>
              </a:rPr>
              <a:t>Gatekeeper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278000" y="1590840"/>
          <a:ext cx="6589800" cy="36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8000" y="1590840"/>
                    <a:ext cx="6589800" cy="36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4C4B7-D37E-4D07-B22F-5377659892F9}" type="slidenum">
              <a:t>26</a:t>
            </a:fld>
          </a:p>
        </p:txBody>
      </p:sp>
    </p:spTree>
  </p:cSld>
  <p:transition spd="med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Funcionalidad del software realizado V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Intercambio de Información </a:t>
            </a:r>
            <a:r>
              <a:rPr b="1" lang="es-ES_tradnl" sz="2300" spc="-1" strike="noStrike">
                <a:solidFill>
                  <a:srgbClr val="ffffff"/>
                </a:solidFill>
                <a:latin typeface="Tahoma"/>
              </a:rPr>
              <a:t>GUI-</a:t>
            </a:r>
            <a:r>
              <a:rPr b="1" i="1" lang="es-ES_tradnl" sz="2300" spc="-1" strike="noStrike">
                <a:solidFill>
                  <a:srgbClr val="ffffff"/>
                </a:solidFill>
                <a:latin typeface="Tahoma"/>
              </a:rPr>
              <a:t>Gatekeeper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Dibujo" descr=""/>
          <p:cNvPicPr/>
          <p:nvPr/>
        </p:nvPicPr>
        <p:blipFill>
          <a:blip r:embed="rId1"/>
          <a:stretch/>
        </p:blipFill>
        <p:spPr>
          <a:xfrm>
            <a:off x="1285920" y="1595520"/>
            <a:ext cx="6638760" cy="370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C567F-9A1B-4383-A1DA-70E83E2CFAA3}" type="slidenum">
              <a:t>27</a:t>
            </a:fld>
          </a:p>
        </p:txBody>
      </p:sp>
    </p:spTree>
  </p:cSld>
  <p:transition spd="med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Manual de Usuario I</a:t>
            </a:r>
            <a:r>
              <a:rPr b="0" lang="es-E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(Demostración 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Instal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utomát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Manu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utori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rranque de programa Ges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ñadir y Borrar permisos de AL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ñadir y Borrar permisos de LLAMA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ncendido del </a:t>
            </a:r>
            <a:r>
              <a:rPr b="0" i="1" lang="es-ES_tradnl" sz="2400" spc="-1" strike="noStrike">
                <a:solidFill>
                  <a:srgbClr val="ffffff"/>
                </a:solidFill>
                <a:latin typeface="Tahoma"/>
              </a:rPr>
              <a:t>Gatekeep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pagado del </a:t>
            </a:r>
            <a:r>
              <a:rPr b="0" i="1" lang="es-ES_tradnl" sz="2400" spc="-1" strike="noStrike">
                <a:solidFill>
                  <a:srgbClr val="ffffff"/>
                </a:solidFill>
                <a:latin typeface="Tahoma"/>
              </a:rPr>
              <a:t>Gatekeeper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y el programa GU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9977A-E072-4ED5-AD8C-8BB23F09B162}" type="slidenum">
              <a:t>28</a:t>
            </a:fld>
          </a:p>
        </p:txBody>
      </p:sp>
    </p:spTree>
  </p:cSld>
  <p:transition spd="med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Manual de Usuario II ( Pantallas del Gestor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Intentos de alta NO AUTORIZ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Dibujo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782040" cy="483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D7147-EC8D-4260-8F5F-3F3CD39828F2}" type="slidenum">
              <a:t>29</a:t>
            </a:fld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80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Introducción I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1219320"/>
            <a:ext cx="72388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Objetivos del proyec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047600" indent="-285480"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I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plementación de un 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Gatekeeper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(equipo selector H.323) con funcionalidades avanzadas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047600" indent="-285480"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ara S.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Windows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, en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un entono “amigable”, fácil de usar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y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odifica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047600" indent="-285480"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Debe mostrar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la información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de manera sencilla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l usuario o gestor de la vídeo-conferenci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047600" indent="-285480"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oportará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l estándar H.323,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(soportar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telefonía IP, video-conferencia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, etc)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9FA2E-ECA3-45AC-B050-C9394311B004}" type="slidenum">
              <a:t>3</a:t>
            </a:fld>
          </a:p>
        </p:txBody>
      </p:sp>
    </p:spTree>
  </p:cSld>
  <p:transition spd="med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Manual de Usuario III ( Pantallas del Gestor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Intentos de alta AUTORIZ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Dibujo1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05720" cy="478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C51AE-975B-4482-AFB0-0436012B3322}" type="slidenum">
              <a:t>30</a:t>
            </a:fld>
          </a:p>
        </p:txBody>
      </p:sp>
    </p:spTree>
  </p:cSld>
  <p:transition spd="med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Manual de Usuario VI ( Pantallas del Gestor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Intentos de llamada NO AUTORIZ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Dibujo2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705360" cy="476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2BD90-309F-44E3-BD51-41C23AD31822}" type="slidenum">
              <a:t>31</a:t>
            </a:fld>
          </a:p>
        </p:txBody>
      </p:sp>
    </p:spTree>
  </p:cSld>
  <p:transition spd="med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Manual de Usuario V ( Pantallas del Gestor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Intentos de llamada AUTORIZ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Dibujo3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858000" cy="486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20A8A-8AF1-4B8D-90E9-DF514677E6C0}" type="slidenum">
              <a:t>32</a:t>
            </a:fld>
          </a:p>
        </p:txBody>
      </p:sp>
    </p:spTree>
  </p:cSld>
  <p:transition spd="med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Manual de Usuario VI ( Pantallas del Gestor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ltas, inicio de llamada, final de llamada y ba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Dibujo4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705720" cy="47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E6E98-A382-4873-BAE0-B6D910937929}" type="slidenum">
              <a:t>33</a:t>
            </a:fld>
          </a:p>
        </p:txBody>
      </p:sp>
    </p:spTree>
  </p:cSld>
  <p:transition spd="med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ahoma"/>
              </a:rPr>
              <a:t>Fase de Prueba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ntrol de ALTA por direcciones permitid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ntrol de ALTA por horario permiti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ntrol de LLAMADA de la dirección ORI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ntrol de LLAMADA de la dirección DESTI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ntrol de LLAMADA por horario permiti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ealización de altas, inicio de llamada, finalización, y baj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3599F-F542-4269-A2E1-AF299D9CF205}" type="slidenum">
              <a:t>34</a:t>
            </a:fld>
          </a:p>
        </p:txBody>
      </p:sp>
    </p:spTree>
  </p:cSld>
  <p:transition spd="med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Conclusiones y Líneas Futura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olución simple y con posibilidad de ampli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mpliaciones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Font typeface="Symbol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Operación a distancia (puerto TCP 700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Font typeface="Symbol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arific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Font typeface="Symbol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raza o “escuchas” de comunic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Font typeface="Symbol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olítica seguridad activa con alar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Font typeface="Symbol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ntorno  GUI para Linux/Uni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Font typeface="Symbol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Desvío de llama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Font typeface="Symbol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mportamiento en condiciones límit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tentos a evolución de otros protocolos (SIP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2F5AD-AC63-4D5F-BE54-08B9B2A79A76}" type="slidenum">
              <a:t>35</a:t>
            </a:fld>
          </a:p>
        </p:txBody>
      </p:sp>
    </p:spTree>
  </p:cSld>
  <p:transition spd="med"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2590920"/>
            <a:ext cx="83822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cc00"/>
                </a:solidFill>
                <a:latin typeface="Arial"/>
              </a:rPr>
              <a:t>Desarrollo de un Equipo Selector H323 con Funcionalidades Avanzadas</a:t>
            </a:r>
            <a:r>
              <a:rPr b="0" lang="es-ES_tradnl" sz="36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0" y="609588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Times New Roman"/>
              </a:rPr>
              <a:t>Málaga, 9 de Noviembre de 2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7859880" y="152280"/>
          <a:ext cx="128412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9880" y="152280"/>
                    <a:ext cx="128412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7" name="Umatrans" descr=""/>
          <p:cNvPicPr/>
          <p:nvPr/>
        </p:nvPicPr>
        <p:blipFill>
          <a:blip r:embed="rId3"/>
          <a:stretch/>
        </p:blipFill>
        <p:spPr>
          <a:xfrm>
            <a:off x="0" y="152280"/>
            <a:ext cx="1371600" cy="12448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858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SerpentineDBol"/>
              </a:rPr>
              <a:t>Proyecto Fin de</a:t>
            </a:r>
            <a:r>
              <a:rPr b="0" lang="es-ES_tradnl" sz="2800" spc="-1" strike="noStrike">
                <a:solidFill>
                  <a:srgbClr val="ffffff"/>
                </a:solidFill>
                <a:latin typeface="SerpentineDBol"/>
              </a:rPr>
              <a:t> </a:t>
            </a:r>
            <a:r>
              <a:rPr b="0" lang="es-ES_tradnl" sz="3600" spc="-1" strike="noStrike">
                <a:solidFill>
                  <a:srgbClr val="ffffff"/>
                </a:solidFill>
                <a:latin typeface="SerpentineDBol"/>
              </a:rPr>
              <a:t>Carrer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1143000"/>
            <a:ext cx="65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Futura Md BT"/>
              </a:rPr>
              <a:t>ESCUELA TÉCNICA SUPERIOR DE INGENIEROS DE TELECOMUNIC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00400" y="152388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Futura Md BT"/>
              </a:rPr>
              <a:t>UNIVERSIDAD DE MÁLAG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2120" y="4724280"/>
            <a:ext cx="7010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Zurich Ex BT"/>
              </a:rPr>
              <a:t>Autor : José Miguel Prades Barran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Zurich Ex BT"/>
              </a:rPr>
              <a:t>Dirigido por : Eduardo Casilari Pére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Introducción II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Telefonía I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ffea91"/>
                </a:solidFill>
                <a:latin typeface="Tahoma"/>
                <a:ea typeface="Times New Roman"/>
              </a:rPr>
              <a:t>Algunos </a:t>
            </a:r>
            <a:r>
              <a:rPr b="1" lang="es-ES" sz="2000" spc="-1" strike="noStrike">
                <a:solidFill>
                  <a:srgbClr val="ffea91"/>
                </a:solidFill>
                <a:latin typeface="Tahoma"/>
                <a:ea typeface="Times New Roman"/>
              </a:rPr>
              <a:t>servicios</a:t>
            </a:r>
            <a:r>
              <a:rPr b="0" lang="es-ES_tradnl" sz="2000" spc="-1" strike="noStrike">
                <a:solidFill>
                  <a:srgbClr val="ffea91"/>
                </a:solidFill>
                <a:latin typeface="Tahoma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Gateway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(adaptador de telefonía a red IP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Conexión punto a punto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ervicio de Directorio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ea91"/>
                </a:solidFill>
                <a:latin typeface="Tahoma"/>
                <a:ea typeface="Times New Roman"/>
              </a:rPr>
              <a:t>Ventajas</a:t>
            </a:r>
            <a:r>
              <a:rPr b="1" lang="es-ES" sz="2000" spc="-1" strike="noStrike">
                <a:solidFill>
                  <a:srgbClr val="ffea91"/>
                </a:solidFill>
                <a:latin typeface="Tahoma"/>
                <a:ea typeface="Times New Roman"/>
              </a:rPr>
              <a:t> de la telefonía </a:t>
            </a:r>
            <a:r>
              <a:rPr b="1" lang="es-ES_tradnl" sz="2000" spc="-1" strike="noStrike">
                <a:solidFill>
                  <a:srgbClr val="ffea91"/>
                </a:solidFill>
                <a:latin typeface="Tahoma"/>
                <a:ea typeface="Times New Roman"/>
              </a:rPr>
              <a:t>IP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Bajo coste de implantación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Uso mas eficiente de los recursos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Reducción de costes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Uso del teléfono sin nueva líne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istema escalable a las necesidades actuales y futuras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C4A46-57DA-4175-B38B-6465C1E66315}" type="slidenum">
              <a:t>4</a:t>
            </a:fld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Componentes del protocolo H.323 (I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ffffff"/>
                </a:solidFill>
                <a:latin typeface="Tahoma"/>
              </a:rPr>
              <a:t>Terminales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75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300" spc="-1" strike="noStrike">
                <a:solidFill>
                  <a:srgbClr val="ffffff"/>
                </a:solidFill>
                <a:latin typeface="Tahoma"/>
              </a:rPr>
              <a:t>Gateway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75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ffffff"/>
                </a:solidFill>
                <a:latin typeface="Tahoma"/>
                <a:ea typeface="Times New Roman"/>
              </a:rPr>
              <a:t>Unidades de Control Multipunto</a:t>
            </a:r>
            <a:r>
              <a:rPr b="1" lang="es-ES_tradnl" sz="23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es-ES" sz="2300" spc="-1" strike="noStrike">
                <a:solidFill>
                  <a:srgbClr val="ffffff"/>
                </a:solidFill>
                <a:latin typeface="Tahoma"/>
                <a:ea typeface="Times New Roman"/>
              </a:rPr>
              <a:t>(MCU)</a:t>
            </a:r>
            <a:r>
              <a:rPr b="1" lang="es-ES" sz="23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75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300" spc="-1" strike="noStrike">
                <a:solidFill>
                  <a:srgbClr val="ffffff"/>
                </a:solidFill>
                <a:latin typeface="Tahoma"/>
              </a:rPr>
              <a:t>Gatekeeper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ea91"/>
                </a:solidFill>
                <a:latin typeface="Tahoma"/>
                <a:ea typeface="Times New Roman"/>
              </a:rPr>
              <a:t>Funciones requeridas para un </a:t>
            </a:r>
            <a:r>
              <a:rPr b="1" i="1" lang="es-ES" sz="2100" spc="-1" strike="noStrike">
                <a:solidFill>
                  <a:srgbClr val="ffea91"/>
                </a:solidFill>
                <a:latin typeface="Tahoma"/>
                <a:ea typeface="Times New Roman"/>
              </a:rPr>
              <a:t>Gatekeeper</a:t>
            </a:r>
            <a:r>
              <a:rPr b="0" lang="es-ES" sz="21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Symbol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Traslación de direc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Symbol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Control de admisi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Symbol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Control de Ancho de Ban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Symbol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Gestión de una Zona (H.323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Dibujo" descr=""/>
          <p:cNvPicPr/>
          <p:nvPr/>
        </p:nvPicPr>
        <p:blipFill>
          <a:blip r:embed="rId1"/>
          <a:stretch/>
        </p:blipFill>
        <p:spPr>
          <a:xfrm>
            <a:off x="1981080" y="4572000"/>
            <a:ext cx="4496040" cy="18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F2E77-32CF-4E19-9271-F32640915044}" type="slidenum">
              <a:t>5</a:t>
            </a:fld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Componentes del protocolo H.323 (II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ffffff"/>
                </a:solidFill>
                <a:latin typeface="Tahoma"/>
              </a:rPr>
              <a:t>Gatekeeper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ffea91"/>
                </a:solidFill>
                <a:latin typeface="Tahoma"/>
                <a:ea typeface="Times New Roman"/>
              </a:rPr>
              <a:t>Funciones opcionales de un Gatekeeper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Symbol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Señalización de control de la llama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Symbol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Autorización de la llama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Symbol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Gestión del Ancho de Ban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Symbol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Gestión de la llamad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D6126-A989-4FD6-A2F5-38F76F4F85FF}" type="slidenum">
              <a:t>6</a:t>
            </a:fld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Procedimiento de llamada a través del </a:t>
            </a:r>
            <a:r>
              <a:rPr b="0" i="1" lang="es-ES_tradnl" sz="2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Gatekeeper I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escubrimiento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automátic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del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Gatekeeper</a:t>
            </a:r>
            <a:r>
              <a:rPr b="0" i="1" lang="es-ES_tradnl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(canal RA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egistro del </a:t>
            </a:r>
            <a:r>
              <a:rPr b="0" i="1" lang="es-ES_tradnl" sz="2800" spc="-1" strike="noStrike">
                <a:solidFill>
                  <a:srgbClr val="ffffff"/>
                </a:solidFill>
                <a:latin typeface="Tahoma"/>
              </a:rPr>
              <a:t>endpoint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n el </a:t>
            </a:r>
            <a:r>
              <a:rPr b="0" i="1" lang="es-ES_tradnl" sz="2800" spc="-1" strike="noStrike">
                <a:solidFill>
                  <a:srgbClr val="ffffff"/>
                </a:solidFill>
                <a:latin typeface="Tahoma"/>
              </a:rPr>
              <a:t>Gatekee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Dibujo1" descr=""/>
          <p:cNvPicPr/>
          <p:nvPr/>
        </p:nvPicPr>
        <p:blipFill>
          <a:blip r:embed="rId1"/>
          <a:stretch/>
        </p:blipFill>
        <p:spPr>
          <a:xfrm>
            <a:off x="2971800" y="2057400"/>
            <a:ext cx="2438280" cy="957240"/>
          </a:xfrm>
          <a:prstGeom prst="rect">
            <a:avLst/>
          </a:prstGeom>
          <a:ln w="0">
            <a:noFill/>
          </a:ln>
        </p:spPr>
      </p:pic>
      <p:pic>
        <p:nvPicPr>
          <p:cNvPr id="106" name="Dibujo2" descr=""/>
          <p:cNvPicPr/>
          <p:nvPr/>
        </p:nvPicPr>
        <p:blipFill>
          <a:blip r:embed="rId2"/>
          <a:stretch/>
        </p:blipFill>
        <p:spPr>
          <a:xfrm>
            <a:off x="2971800" y="4267080"/>
            <a:ext cx="2409840" cy="209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910F9-31EB-48C2-B2E4-4B85CB1209ED}" type="slidenum">
              <a:t>7</a:t>
            </a:fld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Procedimiento de llamada a través del </a:t>
            </a:r>
            <a:r>
              <a:rPr b="0" i="1" lang="es-ES_tradnl" sz="2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Gatekeeper II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  <a:ea typeface="Tahoma"/>
              </a:rPr>
              <a:t>Procedimiento de señalización de llamada (</a:t>
            </a:r>
            <a:r>
              <a:rPr b="0" i="1" lang="es-ES_tradnl" sz="2800" spc="-1" strike="noStrike">
                <a:solidFill>
                  <a:srgbClr val="ffffff"/>
                </a:solidFill>
                <a:latin typeface="Tahoma"/>
                <a:ea typeface="Tahoma"/>
              </a:rPr>
              <a:t>Call Signalling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Llamada de 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etup (Call Setup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municación inicial e intercambio de capac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Dibujo" descr=""/>
          <p:cNvPicPr/>
          <p:nvPr/>
        </p:nvPicPr>
        <p:blipFill>
          <a:blip r:embed="rId1"/>
          <a:stretch/>
        </p:blipFill>
        <p:spPr>
          <a:xfrm>
            <a:off x="2971800" y="2362320"/>
            <a:ext cx="258768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AC9DA-B100-4574-8008-25DFD0F223E5}" type="slidenum">
              <a:t>8</a:t>
            </a:fld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280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Procedimiento de llamada a través del </a:t>
            </a:r>
            <a:r>
              <a:rPr b="0" i="1" lang="es-ES_tradnl" sz="2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Gatekeeper III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stablecimiento de comunicación Audiovisu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ervicios ofrecidos por el </a:t>
            </a:r>
            <a:r>
              <a:rPr b="0" i="1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Gatekeep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erminación de la llamada (iniciada por el </a:t>
            </a:r>
            <a:r>
              <a:rPr b="0" i="1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ndpoin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Dibujo3" descr=""/>
          <p:cNvPicPr/>
          <p:nvPr/>
        </p:nvPicPr>
        <p:blipFill>
          <a:blip r:embed="rId1"/>
          <a:stretch/>
        </p:blipFill>
        <p:spPr>
          <a:xfrm>
            <a:off x="2286000" y="3276720"/>
            <a:ext cx="4486320" cy="296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21F9D-D0F9-43F6-948A-89A245843FAF}" type="slidenum">
              <a:t>9</a:t>
            </a:fld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0:35:21Z</dcterms:created>
  <dc:creator>José Miguel Prades Barranco</dc:creator>
  <dc:description/>
  <dc:language>en-US</dc:language>
  <cp:lastModifiedBy>..</cp:lastModifiedBy>
  <cp:lastPrinted>1999-09-29T11:04:48Z</cp:lastPrinted>
  <dcterms:modified xsi:type="dcterms:W3CDTF">2001-10-26T00:32:28Z</dcterms:modified>
  <cp:revision>109</cp:revision>
  <dc:subject/>
  <dc:title>Desarrollo de un Equipo selector H.323 con funcionalidades avanzadas</dc:title>
</cp:coreProperties>
</file>